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C7E-A1AE-40C8-8B0B-09AB1429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EB4-548B-45B3-BC57-22BB7161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C65-1843-4EB7-9B08-3707B0A6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02F-31F3-4DAC-BAEB-C3C96701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10B-BD44-46F3-A4B4-4B3DFD23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AE9-F239-4CC0-AF3A-24D321DF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DEA-99F8-4458-A2BD-A2B0E1F0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753-01DB-4C5E-A0A8-F68CD2CB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68B-9B55-48F3-9F64-26DFAF09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7E1-1DD2-42BD-BFB2-3AA6DC6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955-2959-448F-8AA7-DD06FA8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9F8-9B18-41C9-BA03-215D482B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0B2-802E-440E-9E18-0531B024C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ve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štaj o upisu kandidata na Filozofski fakultet školske 2012/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b3b3b3"/>
                </a:solidFill>
                <a:latin typeface="Arial"/>
              </a:rPr>
              <a:t>Ognjen Radonj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b3b3b3"/>
                </a:solidFill>
                <a:latin typeface="Arial"/>
              </a:rPr>
              <a:t>Koordinator u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0" y="762120"/>
          <a:ext cx="91440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0" y="838080"/>
          <a:ext cx="91440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0" y="533520"/>
          <a:ext cx="914400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0" y="533520"/>
          <a:ext cx="91440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0" y="609480"/>
          <a:ext cx="914400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0" y="380880"/>
          <a:ext cx="914400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Sekundarni izbor na nivou Fakult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odovi poslednjeg primljenog kandi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ologija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nologija i antropologija (bodo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heologija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orija umetnosti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7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ozofija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čne nauke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truktura ispunjenosti 170 mesta na bazi kvote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roj slobodnih mesta i broj prijavljenih kandidata po odeljen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0" y="762120"/>
          <a:ext cx="914400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rocenat kandidata koji su se izjasnili za alternativni izbor po odelje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0" y="83808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5"/>
          <p:cNvGraphicFramePr/>
          <p:nvPr/>
        </p:nvGraphicFramePr>
        <p:xfrm>
          <a:off x="0" y="762120"/>
          <a:ext cx="91440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0" y="76212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0" y="838080"/>
          <a:ext cx="91440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0:04Z</dcterms:created>
  <dc:creator>Korisnik</dc:creator>
  <dc:description/>
  <dc:language>en-US</dc:language>
  <cp:lastModifiedBy>andja</cp:lastModifiedBy>
  <dcterms:modified xsi:type="dcterms:W3CDTF">2012-09-25T13:41:53Z</dcterms:modified>
  <cp:revision>16</cp:revision>
  <dc:subject/>
  <dc:title>Izveštaj o upisu kandidata na Filozofski fakultet školske 2012/13</dc:title>
</cp:coreProperties>
</file>